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853-A01D-46CF-9DC3-B4C17AF1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D8E-07BA-4B00-8F15-B12C9910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B83-9790-4F19-A221-931B4AA1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7B9-EFFF-4FA8-AC7F-9D8B3C1C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37B-0A00-463E-8B0F-6484AF9F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354-11C7-43E8-974D-FDC1FBC0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600-629B-486C-9C6A-DD7E6169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A51-74DD-472C-AEF1-869D21D6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CCB-897F-4A65-8B7F-DC75A598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31E-0D7E-4085-835E-AA30BBC4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DEC-DC48-451E-B9F5-42391730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1FA-448E-4042-BEAB-5FF77ACB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112B-D3BC-4765-AD7D-3EFD36F73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ive C’s of Managing the Digital Library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cation, Cooperation, Coordination, Collaboration, and Cross-Train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R. D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clair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th Annual Computers in Libraries ‘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ch 8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gital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33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gital Library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05000" y="2793960"/>
          <a:ext cx="6715080" cy="549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2793960"/>
                    <a:ext cx="6715080" cy="54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m Support of Digital Library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rd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oss-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ing the Digital Library Comm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90480" y="2289240"/>
          <a:ext cx="7871040" cy="366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2289240"/>
                    <a:ext cx="787104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ty Support of the Digital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E-mail Notification of Fail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-Based Forms for Questions/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s to Common Questions in FAQ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User Techniques in Online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portunities for Managing the Digital Library 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Recruitment from D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le Scheduling for 24 x 7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commuting to Retain Effective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Staff for New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9T16:31:27Z</dcterms:created>
  <dc:creator>Dr. Robert R. Downs</dc:creator>
  <dc:description/>
  <dc:language>en-US</dc:language>
  <cp:lastModifiedBy>William C. Spence</cp:lastModifiedBy>
  <dcterms:modified xsi:type="dcterms:W3CDTF">1999-03-17T01:59:00Z</dcterms:modified>
  <cp:revision>8</cp:revision>
  <dc:subject/>
  <dc:title>The Five C’s of Managing the Digital Library: Communication, Cooperation, Coordination, Collaboration, and Cross-Train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680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ITWEB\cil99\ppt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